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C46-C9B3-4442-BE17-CABC0267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97B-74FF-410E-A6AE-CBC9FD21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7F-9AB9-4BE5-A33E-847FE93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462-282B-4700-A157-C67E102C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2DC7-6758-4EA1-9266-C9A54E8A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9A24-E2A4-43AE-B6AE-6BCF77CD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5F97-E305-4008-973C-2DFB99D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08B8-D502-4CE5-AC92-39E9D8F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A513-9A60-433F-95ED-4344902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5744-EC14-43A9-94EE-9519C53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4A37-FE72-40AC-B4FC-7EDEEE27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F0A-18C4-4B8B-A85B-2526880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2FF5-24E0-4921-BFDA-583FF72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09B-32C0-4CF9-A8CE-0C6E3E3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2E4-0156-4C53-AA2F-D2FC8486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9B3-058F-480B-9A9A-0CC3E1D3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67A0-88EA-491E-AF23-3BD2EB92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89E-3C3E-4805-A256-0A3AA45C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054-F701-441B-BA61-90F639A0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8D9-B59B-4F65-8523-B78E420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D5D-B5CA-4477-9AB4-F975536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DD6-3918-421E-8DE1-F253C21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175-B6B1-4513-80FB-C65BD00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7AA-098D-44D7-8388-2FD4B62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A491-70A6-46B6-8190-E25D60DB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296-BB19-4466-92DA-1C1E9A7FA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waytorussia.net/Moscow/GettingAround.html" TargetMode="External"/><Relationship Id="rId3" Type="http://schemas.openxmlformats.org/officeDocument/2006/relationships/hyperlink" Target="http://www.waytorussia.net/Moscow/GettingAround.html" TargetMode="External"/><Relationship Id="rId4" Type="http://schemas.openxmlformats.org/officeDocument/2006/relationships/hyperlink" Target="http://www.waytorussia.net/Moscow/GettingAround.html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morrisonworldnews.com/wp-content/uploads/2010/08/Russia-donates-250-buses-to-Nicaragua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farm4.static.flickr.com/3096/3162652288_15abcce6f8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rush Script MT"/>
              </a:rPr>
              <a:t>Russian Movement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By: Sai Allu and Nhi 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Period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Sub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Bi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Tr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Carriages pulled by ho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ush Script MT"/>
              </a:rPr>
              <a:t>Inland Water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horsey"/>
          <p:cNvPicPr/>
          <p:nvPr/>
        </p:nvPicPr>
        <p:blipFill>
          <a:blip r:embed="rId1"/>
          <a:stretch/>
        </p:blipFill>
        <p:spPr>
          <a:xfrm>
            <a:off x="4038480" y="3276720"/>
            <a:ext cx="4800600" cy="319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rush Script MT"/>
              </a:rPr>
              <a:t>Transportation in Mosc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metro is all one zone there is no special z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metro is open from 5:20 A.M to 1:00 A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Lucida Calligraphy"/>
              </a:rPr>
              <a:t>The rush hours for the metro in Moscow are 8:00 A.M. to 9:00 A.M. and 17:00 P.M. to 19:00 P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Getting around Moscow by metro and public transport |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aytorussia.net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027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50272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adley Hand ITC"/>
              </a:rPr>
              <a:t>Port C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4667040" cy="322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4681440"/>
            <a:ext cx="3271680" cy="217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48200" y="4370400"/>
            <a:ext cx="3295800" cy="248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8120" y="1066680"/>
            <a:ext cx="371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974600">
            <a:off x="533520" y="284004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      </a:t>
            </a: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The End </a:t>
            </a: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6600" spc="-1" strike="noStrike">
                <a:solidFill>
                  <a:srgbClr val="ffffff"/>
                </a:solidFill>
                <a:latin typeface="Juice ITC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4191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Juice IT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 </dc:creator>
  <dc:description/>
  <dc:language>en-US</dc:language>
  <cp:lastModifiedBy> </cp:lastModifiedBy>
  <dcterms:modified xsi:type="dcterms:W3CDTF">2010-12-20T19:43:36Z</dcterms:modified>
  <cp:revision>8</cp:revision>
  <dc:subject/>
  <dc:title>Russian Movement </dc:title>
</cp:coreProperties>
</file>